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D1B2-D401-4851-A4B8-09941E4EB0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m-few people share out respo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7A7B-3501-430D-AE0F-9861C0D2F9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ron-share with a partner and then few people share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371F-D75C-4FEF-AB1A-A5B40E54B7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ky-have them post on large sheet of p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F5C7-413D-45BB-BC9B-706BCDD13B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BF05-2215-45C9-898F-BA3B042E5A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7B82-0E48-4294-9149-5FEA0430D1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37D2-4A88-47D0-8E2A-FCEDC4901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AF3C-0537-4BEC-BAC3-2152A3A5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C30B-434E-4C16-8C57-EBB0D2EC8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8A91-D623-4BBC-9CFF-15DF44D37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5B7E-43B3-4981-8162-DE530E478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FBA2-437E-439E-90F7-F909253F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31F4-B950-4DA5-B616-96E0A72E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618B-3A9C-4434-B962-1C5E2279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CBB6-2A67-4F62-B9FB-CAFE40EE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87E6-447B-41AD-B7B3-F270AFD6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E84C-A830-4D99-B026-1ED144FB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0552-6CCC-4E19-BCC7-480E008C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F159-0A85-4F0E-9588-9F1F3D0A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9751-7756-4FA6-85F7-2E695190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8FF8-36DA-48AC-B0CA-6CB9E815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129A-520B-425D-BF83-13C69F594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BCEA-2353-4B47-80AC-EAD250F69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1E26F-A962-4B75-AD85-4610CF7B2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82C0F-7B3D-4B6E-A547-79CAC70E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80A01-28B3-48A6-B8FF-3EE8A6BD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E4B72-F016-41E8-BD19-11FFC571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26FBE-FE68-4371-BAFA-19F419CD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0582-0BCB-42DD-B1B1-0C6F5EC7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749F5-D179-4118-B36C-365FA45F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C7D05-2B1F-4BA3-96FD-1B6D77C4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42545-F1DD-4A29-B492-E2A654A4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9B717-EE35-402B-B1BA-0A940E21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D5CAA-07AC-4473-8396-093A7F15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04562-ABAD-4F53-9A51-93B67482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B187E-163B-4575-93CD-61E5557D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90444-532A-43E7-AB73-D2078812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73B90-9B57-4144-B395-6D24B13D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0AF3D-9BCD-4879-BB71-D135499C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E269-8E4E-4040-9251-D5CD5B2C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81B20-D515-4524-83D3-6371A0E4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586F9-8B52-4CC2-AE58-F31527A2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BDF1C-522B-49D6-9504-358FBC2D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EF999-B167-49A4-A978-185CF620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23DB3-20F0-4BD6-9A63-591AB86D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D0D67-6BB7-4FBC-8D94-E0971E67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F2C89-FEB0-46B6-AF0D-1707E0AA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4BAD4-B2F8-4585-A7E8-EBFFD437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9A68A-AB04-474A-AAD3-E7A41A7D6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8607A-810C-40A8-A462-EEC2D9B70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E67C-CD5F-4AE2-A441-ADE9E810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4816C-0627-45A6-82FC-52EBECB6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80E9F-19A8-4320-9ECF-2E9E62CC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2BEC6-0EFE-4C14-9DA8-4573B11B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7283B-E2A8-4C1B-B6E3-C95DD1AE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9E45D-A012-4EE0-82D3-76D810C1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1EEC4-A3C7-49A0-9E49-6872BD2A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24913-5C15-4E81-8788-FBE07BD0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4FA67-0766-4EA2-85C0-3AD6C3BA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B2890-B469-4EA7-BCCD-7377D9A2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D43F3-387F-4A1B-98F2-972B3F2F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4AEB-5593-40F8-8B03-78BDEC1D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A8FB5-1AC6-4F7E-924D-8FBBE9B67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31B75-AF60-45AD-91A1-B2CCDB53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74B46-5890-4863-A8EF-759CF014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2CF95-D64A-4941-84EF-49D6CD0F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3AD00-BB4F-4D3E-9A20-9E28A575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3C074-59A1-4068-94DE-0644AB97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2A62B-52D0-4261-9526-BB73049D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59745-7D26-4B0D-8473-F0C7A665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1C09A-CCBF-48B6-8262-1DC73029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88487-1BC7-48B3-B7C4-950359F0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6E50-673F-4641-8321-3A7CC52E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2BE64-2B19-4FD0-8E9F-22FA51A2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76AA4-C84F-492A-AFB0-49BE20483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9895D-56AC-4EA5-BE52-3D8B4919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BA2AB-C251-415B-8D5A-118D12DE0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A7A74-7B6C-4A61-AC6A-7DA3AC6F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18783-0676-4B4C-9BDA-672C2615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59B5F-5DAC-4FD8-8D42-E27F0B45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70CCF-EB82-4663-9F38-E8B6198B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D12E7-FEFA-4204-9AC3-7FA0A5AD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16A45-4058-450F-AD9C-311FD03D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74BE-6C22-4AD8-8392-2D34BE1F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608FA-E823-47C4-A82A-7D741387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1E2A8-30D5-4D1B-8F46-FAD355E4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E12FF-DD81-4714-AD35-A5FFD229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48136-8507-4EDA-8181-40C4C27EF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30B88-5AB2-439F-A953-44FA82046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23047-7BA2-4B36-9E8F-2BD157F2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FF98A-A5A1-4B25-A035-DD05FFB0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00975-71F5-4A1E-A162-20AD34F9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F6EBD-B93F-4AC6-8258-04361665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89981-1EB5-4391-96FD-0F3B27CC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CAD2-61D8-4113-9AF9-B07B58E1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A6454-9C4B-4B87-9C56-404879E9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4DD1B-BEE1-4C12-83D2-00475147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8E851-32E1-4E79-A56B-8B54D89C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F2480-1334-484A-AE4D-7D481ACC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83F01-B510-4742-8C5C-614CC73F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5054E-E889-4A8B-8AF2-5A6BE753C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BA3E7-6063-44DF-91E1-1D6D3C0F7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D99E-BB22-40DF-A361-03C181CE487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5806-D802-4D58-84C4-8B9A4090B5E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CEFA-9D03-4E07-9E9B-E122B73AFA3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4D27-EFB1-4704-A0FF-D777FC4258A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C805-19E8-4C5A-A084-05B5BDFC29F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BF0C-A233-436D-BA76-B07EB340762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5480-5BE7-4ABD-9ACE-90E8C255248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A31A-D5B8-45AD-B806-6698E781DFC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130960" cy="22557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mall Group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ay 16, 2012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Explain why Write to Learn is a powerful tool with respect to formative assessment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96840" y="201600"/>
            <a:ext cx="858996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What did the student work tell you as the teacher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How did that affect your instruction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96840" y="201600"/>
            <a:ext cx="858996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On separate post it notes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What was a success with writing this year with your students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What do you still need to work on with writing with your students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96840" y="201600"/>
            <a:ext cx="858996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76040" y="274680"/>
            <a:ext cx="8510760" cy="129204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761760" y="3276360"/>
            <a:ext cx="7924680" cy="2895480"/>
          </a:xfrm>
          <a:prstGeom prst="rect">
            <a:avLst/>
          </a:prstGeom>
          <a:solidFill>
            <a:srgbClr val="ffffff"/>
          </a:solidFill>
          <a:ln w="9720">
            <a:solidFill>
              <a:srgbClr val="2da2bf"/>
            </a:solidFill>
            <a:miter/>
          </a:ln>
        </p:spPr>
        <p:txBody>
          <a:bodyPr lIns="182880" anchor="t">
            <a:normAutofit/>
          </a:bodyPr>
          <a:p>
            <a:pPr marL="457200" indent="-4572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rite to Learn small group PD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rite to Learn large group PD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upport from Write to Learn tea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arity of Write to Learn objectiv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ontent covered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444680"/>
            <a:ext cx="4040280" cy="10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ositives or what worked wel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644720" y="1444680"/>
            <a:ext cx="404172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5560" indent="-2070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onstructive feedback about improvemen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hat systems/supports need to be in place to use writing as a formative assessment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How can you use writing as a formative assessment with your content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nceptual Physics exampl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velop some ideas for next yea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96840" y="201600"/>
            <a:ext cx="858996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14:32:27Z</dcterms:created>
  <dc:creator>L-Net</dc:creator>
  <dc:description/>
  <dc:language>en-US</dc:language>
  <cp:lastModifiedBy>Curto, Sara</cp:lastModifiedBy>
  <dcterms:modified xsi:type="dcterms:W3CDTF">2012-05-16T18:41:41Z</dcterms:modified>
  <cp:revision>5</cp:revision>
  <dc:subject/>
  <dc:title>Write to Learn</dc:title>
</cp:coreProperties>
</file>